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DEE06-4EA2-40B5-BC9B-A0D3EFA6889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is lesson should take about 2 hours: Quiz – 10 mins; Reading 1 – 20 mins; Jigsaw reading – 20 mins; Speaking – 20 mins; Writing – 40 m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54B37-F34B-4BB9-928E-8388066118D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earners can discuss these questions in small group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6129D-B77F-45EA-84E8-1C3B1A6D3EE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Key to quiz: 1/b  2/c  3/a  4/a  5/c  6/c  7/a  8/b     Learners can access this on-line, the teacher can print it out beforehand, or learners can read it from the scre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EAB93-E460-4E0E-A77A-2D466ADFB5D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earners can access these on-line, or the teacher can print them out beforeha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0B3B6-1F88-446A-AA08-E824C8E8915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 teacher can monitor for errors and write these on the board for post-task error corr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BAC40-49A3-4F00-961F-93C4E025DA8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earners can stick their completed letters to the board, then read each other’s, pointing out where they are successful and where they could be improv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87EEC-951B-4E68-AFD8-BF3CA252123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90833-C8C1-4CD6-94B6-2B5E43F7B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95800-2AC9-481F-B2CF-111FB394C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D717B-6926-4802-A7F3-1F5EB4E31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A8692-2D63-437E-BA32-EE42C199D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11BAD-E40F-421B-A683-660977FC7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85244-F1D5-4195-BF69-3FED40BFB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F0FF5-B648-46B3-8AC2-14FB4CB20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CB119-A5A9-42B7-8199-6E46F5449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F3451-7A9D-4091-90D1-666BA0B1E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82744-315E-4FEE-8D7F-26EDAC3EE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8DBA5-8A7B-4437-A798-0336BD294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DC8DB-3783-4A3E-AF46-A261BA042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28673-38F6-48B6-B6F9-DE59008C1E02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eewiki.newint.org/index.php/The_Spirit_of_Saro-Wiwa_fights_again_in_the_Niger_Delta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58920" y="2130120"/>
            <a:ext cx="5398920" cy="252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0" spc="-1" strike="noStrike">
                <a:solidFill>
                  <a:srgbClr val="000000"/>
                </a:solidFill>
                <a:latin typeface="Calibri"/>
              </a:rPr>
              <a:t>Oil</a:t>
            </a:r>
            <a:endParaRPr b="0" lang="en-US" sz="1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240" y="5084640"/>
            <a:ext cx="7016760" cy="11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Intermediate   New Internationalist  Easier English ready less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3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2667240" cy="37717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" descr=""/>
          <p:cNvPicPr/>
          <p:nvPr/>
        </p:nvPicPr>
        <p:blipFill>
          <a:blip r:embed="rId2"/>
          <a:stretch/>
        </p:blipFill>
        <p:spPr>
          <a:xfrm>
            <a:off x="3649680" y="333360"/>
            <a:ext cx="517536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lesson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250560" y="1916280"/>
            <a:ext cx="873756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800" spc="-1" strike="noStrike">
                <a:solidFill>
                  <a:srgbClr val="c00000"/>
                </a:solidFill>
                <a:latin typeface="Calibri"/>
              </a:rPr>
              <a:t>Reading: articles about oil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800" spc="-1" strike="noStrike">
                <a:solidFill>
                  <a:srgbClr val="00b050"/>
                </a:solidFill>
                <a:latin typeface="Calibri"/>
              </a:rPr>
              <a:t>Speaking: about problems and solutions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800" spc="-1" strike="noStrike">
                <a:solidFill>
                  <a:srgbClr val="7030a0"/>
                </a:solidFill>
                <a:latin typeface="Calibri"/>
              </a:rPr>
              <a:t>Writing: a formal persuasive letter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5940360" y="436572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" descr=""/>
          <p:cNvPicPr/>
          <p:nvPr/>
        </p:nvPicPr>
        <p:blipFill>
          <a:blip r:embed="rId2"/>
          <a:stretch/>
        </p:blipFill>
        <p:spPr>
          <a:xfrm>
            <a:off x="3780000" y="4255920"/>
            <a:ext cx="1695240" cy="23958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"/>
          <p:cNvPicPr/>
          <p:nvPr/>
        </p:nvPicPr>
        <p:blipFill>
          <a:blip r:embed="rId3"/>
          <a:stretch/>
        </p:blipFill>
        <p:spPr>
          <a:xfrm>
            <a:off x="79200" y="4300560"/>
            <a:ext cx="3340440" cy="22240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"/>
          <p:cNvPicPr/>
          <p:nvPr/>
        </p:nvPicPr>
        <p:blipFill>
          <a:blip r:embed="rId4"/>
          <a:stretch/>
        </p:blipFill>
        <p:spPr>
          <a:xfrm>
            <a:off x="6804000" y="115920"/>
            <a:ext cx="2287440" cy="15238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6" descr=""/>
          <p:cNvPicPr/>
          <p:nvPr/>
        </p:nvPicPr>
        <p:blipFill>
          <a:blip r:embed="rId5"/>
          <a:stretch/>
        </p:blipFill>
        <p:spPr>
          <a:xfrm>
            <a:off x="250920" y="115920"/>
            <a:ext cx="2160360" cy="14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Quiz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250560" y="1125000"/>
            <a:ext cx="878508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98960" indent="-4989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Calibri"/>
              </a:rPr>
              <a:t>Where is Ogoni? (one of the most polluted places in the world)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lnSpc>
                <a:spcPct val="90000"/>
              </a:lnSpc>
              <a:spcBef>
                <a:spcPts val="751"/>
              </a:spcBef>
              <a:buClr>
                <a:srgbClr val="0070c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70c0"/>
                </a:solidFill>
                <a:latin typeface="Calibri"/>
              </a:rPr>
              <a:t>Australia      b) Nigeria    c) German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Calibri"/>
              </a:rPr>
              <a:t>2. Why are people protesting in Ogoni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lnSpc>
                <a:spcPct val="90000"/>
              </a:lnSpc>
              <a:spcBef>
                <a:spcPts val="751"/>
              </a:spcBef>
              <a:buClr>
                <a:srgbClr val="0070c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70c0"/>
                </a:solidFill>
                <a:latin typeface="Calibri"/>
              </a:rPr>
              <a:t>They want more money      b) They want more oil   c) They want less pollu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Calibri"/>
              </a:rPr>
              <a:t>3. How long have they had oil pollution in Ogoni?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lnSpc>
                <a:spcPct val="90000"/>
              </a:lnSpc>
              <a:spcBef>
                <a:spcPts val="751"/>
              </a:spcBef>
              <a:buClr>
                <a:srgbClr val="0070c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70c0"/>
                </a:solidFill>
                <a:latin typeface="Calibri"/>
              </a:rPr>
              <a:t>50 years   b) 10 years   c) 5 yea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Calibri"/>
              </a:rPr>
              <a:t>4. How much money did Shell pay the Ogoni community in 1970 when the pollution was very bad?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Calibri"/>
              </a:rPr>
              <a:t>a) </a:t>
            </a:r>
            <a:r>
              <a:rPr b="1" lang="en-GB" sz="3000" spc="-1" strike="noStrike">
                <a:solidFill>
                  <a:srgbClr val="0070c0"/>
                </a:solidFill>
                <a:latin typeface="Calibri"/>
              </a:rPr>
              <a:t>£168    b) £1680    c) £16,800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lnSpc>
                <a:spcPct val="90000"/>
              </a:lnSpc>
              <a:spcBef>
                <a:spcPts val="75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-126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250920" y="189000"/>
            <a:ext cx="864216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Calibri"/>
              </a:rPr>
              <a:t>5. Who was Ken Saro-Wiwa?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0070c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70c0"/>
                </a:solidFill>
                <a:latin typeface="Calibri"/>
              </a:rPr>
              <a:t>a Shell worker who suffered from pollu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0070c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70c0"/>
                </a:solidFill>
                <a:latin typeface="Calibri"/>
              </a:rPr>
              <a:t>a Nigerian murderer who didn’t like Shel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0070c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70c0"/>
                </a:solidFill>
                <a:latin typeface="Calibri"/>
              </a:rPr>
              <a:t>a protester who the Nigerian government kille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Calibri"/>
              </a:rPr>
              <a:t>6. The levels of dangerous chemicals in the water in Ogoniland are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0070c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70c0"/>
                </a:solidFill>
                <a:latin typeface="Calibri"/>
              </a:rPr>
              <a:t>9 times    b) 90 times    c) 900 tim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Calibri"/>
              </a:rPr>
              <a:t>more than the maximum WHO (World Health Organisation) limit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Calibri"/>
              </a:rPr>
              <a:t>7. Life expectancy in the Niger Delta i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0070c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70c0"/>
                </a:solidFill>
                <a:latin typeface="Calibri"/>
              </a:rPr>
              <a:t>45    b) 52    c) 59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Calibri"/>
              </a:rPr>
              <a:t>8. After the oil spills in 2008 and 2009 that destroyed the area, Shell offered to pay about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Calibri"/>
              </a:rPr>
              <a:t>a) </a:t>
            </a:r>
            <a:r>
              <a:rPr b="1" lang="en-GB" sz="3000" spc="-1" strike="noStrike">
                <a:solidFill>
                  <a:srgbClr val="0070c0"/>
                </a:solidFill>
                <a:latin typeface="Calibri"/>
              </a:rPr>
              <a:t>$5 million    b) $50 million    c) $500 mill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Now read this to check your answers:</a:t>
            </a:r>
            <a:br>
              <a:rPr sz="4000"/>
            </a:br>
            <a:r>
              <a:rPr b="0" lang="en-GB" sz="16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eewiki.newint.org/index.php/The_Spirit_of_Saro-Wiwa_fights_again_in_the_Niger_Delta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Content Placeholder 3" descr=""/>
          <p:cNvPicPr/>
          <p:nvPr/>
        </p:nvPicPr>
        <p:blipFill>
          <a:blip r:embed="rId2"/>
          <a:stretch/>
        </p:blipFill>
        <p:spPr>
          <a:xfrm>
            <a:off x="1174680" y="1600200"/>
            <a:ext cx="67946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Jigsaw reading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178920" y="1267920"/>
            <a:ext cx="87138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Divide into groups of 4 (A, B, C and D). Each read one of these articles about oil (C &amp; D are shorter articles), and find problems and solutions about oil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A)  http://eewiki.newint.org/index.php/Ending_the_Oil_A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B) http://eewiki.newint.org/index.php/I_was_watched_by_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)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http://eewiki.newint.org/index.php/Universities_take_action_on_anti-fossil_fu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D)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http://eewiki.newint.org/index.php/Football_must_stop_working_with_oil_compan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6372360" y="5445000"/>
            <a:ext cx="2220840" cy="11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71560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alibri"/>
              </a:rPr>
              <a:t>In groups of A, B, C and D, discuss: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324000" y="1600200"/>
            <a:ext cx="8570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600" spc="-1" strike="noStrike">
                <a:solidFill>
                  <a:srgbClr val="000000"/>
                </a:solidFill>
                <a:latin typeface="Calibri"/>
              </a:rPr>
              <a:t>OIL: problems and solutions</a:t>
            </a: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4454640" y="3716280"/>
            <a:ext cx="4440240" cy="29574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" descr=""/>
          <p:cNvPicPr/>
          <p:nvPr/>
        </p:nvPicPr>
        <p:blipFill>
          <a:blip r:embed="rId2"/>
          <a:stretch/>
        </p:blipFill>
        <p:spPr>
          <a:xfrm>
            <a:off x="166680" y="3933720"/>
            <a:ext cx="3421080" cy="22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4546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Writing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In pairs, write a letter to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Calibri"/>
              </a:rPr>
              <a:t>a) UEF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Calibri"/>
              </a:rPr>
              <a:t>b) your local football team  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Calibri"/>
              </a:rPr>
              <a:t>c) your local univers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Persuade them to stop investing in oil, and explain the reasons why this is important for the world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5292720" y="189000"/>
            <a:ext cx="3719520" cy="247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23T11:03:42Z</dcterms:created>
  <dc:creator>Linda Ruas</dc:creator>
  <dc:description/>
  <dc:language>en-US</dc:language>
  <cp:lastModifiedBy>Linda Ruas</cp:lastModifiedBy>
  <dcterms:modified xsi:type="dcterms:W3CDTF">2014-11-23T16:03:09Z</dcterms:modified>
  <cp:revision>10</cp:revision>
  <dc:subject/>
  <dc:title>Oil</dc:title>
</cp:coreProperties>
</file>